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D244-E6EB-4CD5-BCDF-7306DAD28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86A4-BDF8-45C1-8471-6827FBEB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BBC4-4EC5-4382-8808-90DFED780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0E01-E388-42C1-95F3-A0F327162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A5F4-9DC2-4A69-8BB0-073F9E4D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CB182F-91AA-43E7-8885-CF3D470AB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BCC421-7A1C-4156-ADB0-640817A5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B3673E-3775-4B1A-B331-3AE0CCB6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2C598B-A759-44F4-B81B-23BD32FD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B2804B-0E63-49F1-AF9B-EA9589FA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48BF-FE1C-490B-9DE2-A6D9E2C1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2EAAD5-25CD-48D6-AEB3-380A8D2F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D19400-2BEA-462F-853A-AF879474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3759B6-682A-4589-AD01-A6686ECA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F2BC49-A060-429F-9CFE-D4E5889A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8839ED-0E05-4B9C-957C-696A0588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9F6A54-CAD1-4095-98A6-7173C4227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15C26D-C345-49EC-A8AA-253D6DC7F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D8B5-F22E-449B-A335-2235F1BD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03A7-AB4C-4DC3-B789-2D802DFD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8932-D3B3-4308-8182-1E8F7FF3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C06D-F71B-41A4-AB39-E0C5412A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B038-BE59-44D2-9647-9A8EFD21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8C6C-2102-415D-9CD5-539838C3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B8B411-C584-488E-8B74-36BC75470192}" type="datetime">
              <a:rPr b="0" lang="en-US" sz="1000" spc="-1" strike="noStrike">
                <a:solidFill>
                  <a:srgbClr val="59595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A5B34C-C393-4D15-AAB1-DF79D41C5D87}" type="slidenum">
              <a:rPr b="0" lang="en-US" sz="8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4328EA-5996-420F-80E6-3E2A9FAD5851}" type="datetime">
              <a:rPr b="0" lang="en-US" sz="1000" spc="-1" strike="noStrike">
                <a:solidFill>
                  <a:srgbClr val="59595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8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9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10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11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12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13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6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848D50-5905-4E08-9612-3C72311E0D7E}" type="datetime">
              <a:rPr b="0" lang="en-US" sz="1000" spc="-1" strike="noStrike">
                <a:solidFill>
                  <a:srgbClr val="59595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7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8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4BAF97-4E61-48C2-8DB9-48FAAB773706}" type="slidenum">
              <a:rPr b="0" lang="en-US" sz="8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F46327-BDC1-41EB-9F90-15F86C41D011}" type="datetime">
              <a:rPr b="0" lang="en-US" sz="1000" spc="-1" strike="noStrike">
                <a:solidFill>
                  <a:srgbClr val="59595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737D43-3559-4B4F-ACBE-F92221B82DC0}" type="datetime">
              <a:rPr b="0" lang="en-US" sz="1000" spc="-1" strike="noStrike">
                <a:solidFill>
                  <a:srgbClr val="59595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DFD594-0201-403F-9E5F-7C16399465DD}" type="datetime">
              <a:rPr b="0" lang="en-US" sz="1000" spc="-1" strike="noStrike">
                <a:solidFill>
                  <a:srgbClr val="595959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-360" y="3921120"/>
            <a:ext cx="8913960" cy="7048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Statement of the Hypothesi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703440" y="4626000"/>
            <a:ext cx="7610400" cy="18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H</a:t>
            </a: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R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1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    </a:t>
            </a: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Planned outdoor learning experiences, twice a week for 4 weeks, will lead to increased gains in the science learning of 25 fourth graders at P.S. X, as measured by pre and post learning experiences questionnaires.  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2" name="TextBox 3"/>
          <p:cNvSpPr/>
          <p:nvPr/>
        </p:nvSpPr>
        <p:spPr>
          <a:xfrm>
            <a:off x="2332080" y="63504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IMG_0330.JPG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66348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Metho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789120" y="2093400"/>
            <a:ext cx="761040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Participant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wenty-five fourth graders from P.S. X, a Title 1 public schoo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(N) Teachers from P.S. X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wo Brooklyn Botanic Garden Instructor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40543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Metho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7" name="Content Placeholder 2" descr=""/>
          <p:cNvPicPr/>
          <p:nvPr/>
        </p:nvPicPr>
        <p:blipFill>
          <a:blip r:embed="rId1"/>
          <a:stretch/>
        </p:blipFill>
        <p:spPr>
          <a:xfrm>
            <a:off x="804960" y="4962600"/>
            <a:ext cx="7626240" cy="16462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IMG_0438.JPG"/>
          <p:cNvPicPr/>
          <p:nvPr/>
        </p:nvPicPr>
        <p:blipFill>
          <a:blip r:embed="rId2"/>
          <a:stretch/>
        </p:blipFill>
        <p:spPr>
          <a:xfrm>
            <a:off x="0" y="-12600"/>
            <a:ext cx="914400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960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Referenc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18640" y="1393560"/>
            <a:ext cx="76107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entury Gothic"/>
              </a:rPr>
              <a:t>Barratt, E., Barratt, R., &amp; Scott, W. (2007, September 4). Engaging children: research issues around participation and environmental learning. </a:t>
            </a:r>
            <a:r>
              <a:rPr b="0" i="1" lang="en-US" sz="1400" spc="-1" strike="noStrike">
                <a:solidFill>
                  <a:srgbClr val="595959"/>
                </a:solidFill>
                <a:latin typeface="Century Gothic"/>
              </a:rPr>
              <a:t>Environmental Education Research,</a:t>
            </a:r>
            <a:r>
              <a:rPr b="0" lang="en-US" sz="1400" spc="-1" strike="noStrike">
                <a:solidFill>
                  <a:srgbClr val="595959"/>
                </a:solidFill>
                <a:latin typeface="Century Gothic"/>
              </a:rPr>
              <a:t> Vol.13(4), 529-544.  (ERIC Document) Retrieved October 2, 2009, from ERIC database.</a:t>
            </a:r>
            <a:endParaRPr b="0" lang="en-US" sz="1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entury Gothic"/>
              </a:rPr>
              <a:t>Bourdeau, V. (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2008, September</a:t>
            </a:r>
            <a:r>
              <a:rPr b="0" lang="en-US" sz="1400" spc="-1" strike="noStrike">
                <a:solidFill>
                  <a:srgbClr val="595959"/>
                </a:solidFill>
                <a:latin typeface="Century Gothic"/>
              </a:rPr>
              <a:t>). Inquiry goes outdoors: what can we learn at the pond? </a:t>
            </a:r>
            <a:r>
              <a:rPr b="0" i="1" lang="en-US" sz="1400" spc="-1" strike="noStrike">
                <a:solidFill>
                  <a:srgbClr val="595959"/>
                </a:solidFill>
                <a:latin typeface="Century Gothic"/>
              </a:rPr>
              <a:t>Science Scope,</a:t>
            </a:r>
            <a:r>
              <a:rPr b="0" lang="en-US" sz="1400" spc="-1" strike="noStrike">
                <a:solidFill>
                  <a:srgbClr val="595959"/>
                </a:solidFill>
                <a:latin typeface="Century Gothic"/>
              </a:rPr>
              <a:t> 64-67.   (ERIC Document) Retrieved October 2, 2009, from ERIC database.</a:t>
            </a:r>
            <a:endParaRPr b="0" lang="en-US" sz="1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Broda, H. (2007).  Schoolyard enhanced learning: using the outdoors as an instructional tool k-8.  Maine:  Stenhouse.</a:t>
            </a:r>
            <a:endParaRPr b="0" lang="en-US" sz="1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Carrier, S. (2009, March 1). Environmental education in the schoolyard: learning styles and gender. </a:t>
            </a:r>
            <a:r>
              <a:rPr b="0" i="1" lang="en-US" sz="1400" spc="-1" strike="noStrike">
                <a:solidFill>
                  <a:srgbClr val="474747"/>
                </a:solidFill>
                <a:latin typeface="Century Gothic"/>
              </a:rPr>
              <a:t>Journal of Environmental Education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, </a:t>
            </a:r>
            <a:r>
              <a:rPr b="0" i="1" lang="en-US" sz="1400" spc="-1" strike="noStrike">
                <a:solidFill>
                  <a:srgbClr val="474747"/>
                </a:solidFill>
                <a:latin typeface="Century Gothic"/>
              </a:rPr>
              <a:t>40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(3), 2-12. (ERIC Document Reproduction Service No. EJ830534) Retrieved September 17, 2009, from ERIC database.</a:t>
            </a:r>
            <a:endParaRPr b="0" lang="en-US" sz="1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Carrier, S.  (2009 Spring).  The effects of outdoor science lessons with elementary school students on preservice teachers’ self efficacy.  </a:t>
            </a:r>
            <a:r>
              <a:rPr b="0" i="1" lang="en-US" sz="1400" spc="-1" strike="noStrike">
                <a:solidFill>
                  <a:srgbClr val="474747"/>
                </a:solidFill>
                <a:latin typeface="Century Gothic"/>
              </a:rPr>
              <a:t>Journal of Elementary Science Education, 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35-48.  (ERIC Document) Retrieved October 6</a:t>
            </a:r>
            <a:r>
              <a:rPr b="0" lang="en-US" sz="1400" spc="-1" strike="noStrike" baseline="30000">
                <a:solidFill>
                  <a:srgbClr val="474747"/>
                </a:solidFill>
                <a:latin typeface="Century Gothic"/>
              </a:rPr>
              <a:t>th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, 2009, from ERIC database.</a:t>
            </a:r>
            <a:endParaRPr b="0" lang="en-US" sz="1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3"/>
          <p:cNvSpPr/>
          <p:nvPr/>
        </p:nvSpPr>
        <p:spPr>
          <a:xfrm>
            <a:off x="1073160" y="49320"/>
            <a:ext cx="755820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Dewey, J. (1938). Experience in education. </a:t>
            </a:r>
            <a:r>
              <a:rPr b="0" i="1" lang="en-US" sz="1400" spc="-1" strike="noStrike">
                <a:solidFill>
                  <a:srgbClr val="474747"/>
                </a:solidFill>
                <a:latin typeface="Century Gothic"/>
              </a:rPr>
              <a:t>Touchstone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, 2, 2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Dillon, J., Morris, M., O’Donnell, L., Reid, A., Rickinson, M., &amp; Scott, W.  (2005)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Engaging and learning with the outdoors – the final report of the outdoor 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classroom in a rural context action research project.</a:t>
            </a:r>
            <a:r>
              <a:rPr b="0" i="1" lang="en-US" sz="1400" spc="-1" strike="noStrike">
                <a:solidFill>
                  <a:srgbClr val="474747"/>
                </a:solidFill>
                <a:latin typeface="Century Gothic"/>
              </a:rPr>
              <a:t>  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Slough:  National 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Foundation for Education Rese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Dillon, J., Rickinson, M., Teamey, K., Morris, M., Young Choi, M.-Y., Sanders, D., 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Benefeild, P. (2006).  The value of outdoor learning: evidence from research in 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the UK and elsewhere.  </a:t>
            </a:r>
            <a:r>
              <a:rPr b="0" i="1" lang="en-US" sz="1400" spc="-1" strike="noStrike">
                <a:solidFill>
                  <a:srgbClr val="474747"/>
                </a:solidFill>
                <a:latin typeface="Century Gothic"/>
              </a:rPr>
              <a:t>School Science Review, 87, 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107-111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Dyment, J.  (2005).  Green school grounds as sites for outdoor learning:  barriers and 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opportunities.  </a:t>
            </a:r>
            <a:r>
              <a:rPr b="0" i="1" lang="en-US" sz="1400" spc="-1" strike="noStrike">
                <a:solidFill>
                  <a:srgbClr val="474747"/>
                </a:solidFill>
                <a:latin typeface="Century Gothic"/>
              </a:rPr>
              <a:t>Internation Research in Geographical and Environmental </a:t>
            </a:r>
            <a:r>
              <a:rPr b="0" i="1" lang="en-US" sz="1400" spc="-1" strike="noStrike">
                <a:solidFill>
                  <a:srgbClr val="474747"/>
                </a:solidFill>
                <a:latin typeface="Century Gothic"/>
              </a:rPr>
              <a:t>	</a:t>
            </a:r>
            <a:r>
              <a:rPr b="0" i="1" lang="en-US" sz="1400" spc="-1" strike="noStrike">
                <a:solidFill>
                  <a:srgbClr val="474747"/>
                </a:solidFill>
                <a:latin typeface="Century Gothic"/>
              </a:rPr>
              <a:t>Education, 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28-45.  (ERIC Document) Retrieved October 9</a:t>
            </a:r>
            <a:r>
              <a:rPr b="0" lang="en-US" sz="1400" spc="-1" strike="noStrike" baseline="30000">
                <a:solidFill>
                  <a:srgbClr val="474747"/>
                </a:solidFill>
                <a:latin typeface="Century Gothic"/>
              </a:rPr>
              <a:t>th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, 2009, from ERIC 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databa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Foran, A. (2005).  The experience of pedagogic intensity in outdoor education.  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	</a:t>
            </a:r>
            <a:r>
              <a:rPr b="0" i="1" lang="en-US" sz="1400" spc="-1" strike="noStrike">
                <a:solidFill>
                  <a:srgbClr val="474747"/>
                </a:solidFill>
                <a:latin typeface="Century Gothic"/>
              </a:rPr>
              <a:t>Journal of experiential education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, 147-163. (ERIC Document) Retrieved 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November 7, 2009, from ERIC databa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Haines, S. (2006 Summer). Outdoor classrooms - planning makes perfect. </a:t>
            </a:r>
            <a:r>
              <a:rPr b="0" i="1" lang="en-US" sz="1400" spc="-1" strike="noStrike">
                <a:solidFill>
                  <a:srgbClr val="474747"/>
                </a:solidFill>
                <a:latin typeface="Century Gothic"/>
              </a:rPr>
              <a:t>Science and </a:t>
            </a:r>
            <a:r>
              <a:rPr b="0" i="1" lang="en-US" sz="1400" spc="-1" strike="noStrike">
                <a:solidFill>
                  <a:srgbClr val="474747"/>
                </a:solidFill>
                <a:latin typeface="Century Gothic"/>
              </a:rPr>
              <a:t>	</a:t>
            </a:r>
            <a:r>
              <a:rPr b="0" i="1" lang="en-US" sz="1400" spc="-1" strike="noStrike">
                <a:solidFill>
                  <a:srgbClr val="474747"/>
                </a:solidFill>
                <a:latin typeface="Century Gothic"/>
              </a:rPr>
              <a:t>Children, 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44-48. (ERIC Document) Retrieved October 2, 2009, from ERIC 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databa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Johnson, C. (2009).  An examination of effective practice: moving toward elimination 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of achievement gaps in science.  </a:t>
            </a:r>
            <a:r>
              <a:rPr b="0" i="1" lang="en-US" sz="1400" spc="-1" strike="noStrike">
                <a:solidFill>
                  <a:srgbClr val="474747"/>
                </a:solidFill>
                <a:latin typeface="Century Gothic"/>
              </a:rPr>
              <a:t>Journal of Science Teacher Education, 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Vol. 20, 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287-306.  (ERIC Document) Retrieved November 1, 2009, ERIC databas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114560" y="221760"/>
            <a:ext cx="7610400" cy="638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Lord, T. (2008, March/April). If you go down to the woods today… </a:t>
            </a:r>
            <a:r>
              <a:rPr b="0" i="1" lang="en-US" sz="1400" spc="-1" strike="noStrike">
                <a:solidFill>
                  <a:srgbClr val="474747"/>
                </a:solidFill>
                <a:latin typeface="Century Gothic"/>
              </a:rPr>
              <a:t>Journal of College </a:t>
            </a:r>
            <a:r>
              <a:rPr b="0" i="1" lang="en-US" sz="1400" spc="-1" strike="noStrike">
                <a:solidFill>
                  <a:srgbClr val="474747"/>
                </a:solidFill>
                <a:latin typeface="Century Gothic"/>
              </a:rPr>
              <a:t>	</a:t>
            </a:r>
            <a:r>
              <a:rPr b="0" i="1" lang="en-US" sz="1400" spc="-1" strike="noStrike">
                <a:solidFill>
                  <a:srgbClr val="474747"/>
                </a:solidFill>
                <a:latin typeface="Century Gothic"/>
              </a:rPr>
              <a:t>Science Teaching,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 90-93.</a:t>
            </a:r>
            <a:r>
              <a:rPr b="0" i="1" lang="en-US" sz="1400" spc="-1" strike="noStrike">
                <a:solidFill>
                  <a:srgbClr val="474747"/>
                </a:solidFill>
                <a:latin typeface="Century Gothic"/>
              </a:rPr>
              <a:t> 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 (ERIC Document) Retrieved October 2, 2009, from 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ERIC database.</a:t>
            </a:r>
            <a:endParaRPr b="0" lang="en-US" sz="1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Learning outside the classroom manifesto. (2006). Nottingham: Crown  </a:t>
            </a:r>
            <a:endParaRPr b="0" lang="en-US" sz="1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entury Gothic"/>
              </a:rPr>
              <a:t>Macdonald, M., Sloan, H., Miele, E., Powell, W., Silvernail, D., Kinzler, R., Hong, J., &amp; Simon, C. (2008).   Improving urban earth science education: the TRUST model.  </a:t>
            </a:r>
            <a:r>
              <a:rPr b="0" i="1" lang="en-US" sz="1400" spc="-1" strike="noStrike">
                <a:solidFill>
                  <a:srgbClr val="595959"/>
                </a:solidFill>
                <a:latin typeface="Century Gothic"/>
              </a:rPr>
              <a:t>Journal of Geoscience Education, </a:t>
            </a:r>
            <a:r>
              <a:rPr b="0" lang="en-US" sz="1400" spc="-1" strike="noStrike">
                <a:solidFill>
                  <a:srgbClr val="595959"/>
                </a:solidFill>
                <a:latin typeface="Century Gothic"/>
              </a:rPr>
              <a:t>269-279.  Retrieved December 3, 2009, from Journal of Geoscience Education.</a:t>
            </a:r>
            <a:endParaRPr b="0" lang="en-US" sz="1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entury Gothic"/>
              </a:rPr>
              <a:t>Maynard, T. &amp; Waters, J. (2007 October).  Learning in the outdoor environment and missed opportunity?  </a:t>
            </a:r>
            <a:r>
              <a:rPr b="0" i="1" lang="en-US" sz="1400" spc="-1" strike="noStrike">
                <a:solidFill>
                  <a:srgbClr val="595959"/>
                </a:solidFill>
                <a:latin typeface="Century Gothic"/>
              </a:rPr>
              <a:t>Early Years,</a:t>
            </a:r>
            <a:r>
              <a:rPr b="0" lang="en-US" sz="1400" spc="-1" strike="noStrike">
                <a:solidFill>
                  <a:srgbClr val="595959"/>
                </a:solidFill>
                <a:latin typeface="Century Gothic"/>
              </a:rPr>
              <a:t> 255-265. (ERIC Document) Retrieved October 9</a:t>
            </a:r>
            <a:r>
              <a:rPr b="0" lang="en-US" sz="1400" spc="-1" strike="noStrike" baseline="30000">
                <a:solidFill>
                  <a:srgbClr val="595959"/>
                </a:solidFill>
                <a:latin typeface="Century Gothic"/>
              </a:rPr>
              <a:t>th</a:t>
            </a:r>
            <a:r>
              <a:rPr b="0" lang="en-US" sz="1400" spc="-1" strike="noStrike">
                <a:solidFill>
                  <a:srgbClr val="595959"/>
                </a:solidFill>
                <a:latin typeface="Century Gothic"/>
              </a:rPr>
              <a:t>, 2009, from ERIC database.</a:t>
            </a:r>
            <a:endParaRPr b="0" lang="en-US" sz="1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McNally, S. (2009, May 29). Taking classroom into great outdoors; a new breed of teacher is emerging that combines classroom learning with pertinent field trip and resources focused on the environment and the active role of students. </a:t>
            </a:r>
            <a:r>
              <a:rPr b="0" i="1" lang="en-US" sz="1400" spc="-1" strike="noStrike">
                <a:solidFill>
                  <a:srgbClr val="474747"/>
                </a:solidFill>
                <a:latin typeface="Century Gothic"/>
              </a:rPr>
              <a:t>The Gazette (Montreal),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 A12. (LexisNexis Document) Retrieved October 2, 2009, from LexisNexis database. </a:t>
            </a:r>
            <a:endParaRPr b="0" lang="en-US" sz="1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Potter, G., &amp; Ritz, W. (2006, October 1). Sense of wonder science. </a:t>
            </a:r>
            <a:r>
              <a:rPr b="0" i="1" lang="en-US" sz="1400" spc="-1" strike="noStrike">
                <a:solidFill>
                  <a:srgbClr val="474747"/>
                </a:solidFill>
                <a:latin typeface="Century Gothic"/>
              </a:rPr>
              <a:t>Science and Children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, </a:t>
            </a:r>
            <a:r>
              <a:rPr b="0" i="1" lang="en-US" sz="1400" spc="-1" strike="noStrike">
                <a:solidFill>
                  <a:srgbClr val="474747"/>
                </a:solidFill>
                <a:latin typeface="Century Gothic"/>
              </a:rPr>
              <a:t>44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(2), 40-42. (ERIC Document Reproduction Service No. EJ758283) Retrieved September 17, 2009, from ERIC database.</a:t>
            </a:r>
            <a:endParaRPr b="0" lang="en-US" sz="1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Simmons, D.  (1998).  Using natural settings for environmental education: perceived benefits and barriers.  </a:t>
            </a:r>
            <a:r>
              <a:rPr b="0" i="1" lang="en-US" sz="1400" spc="-1" strike="noStrike">
                <a:solidFill>
                  <a:srgbClr val="474747"/>
                </a:solidFill>
                <a:latin typeface="Century Gothic"/>
              </a:rPr>
              <a:t>Journal of Environmental Education, 29(3), 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23-31.  (ERIC Document) Retrieved October 11</a:t>
            </a:r>
            <a:r>
              <a:rPr b="0" lang="en-US" sz="1400" spc="-1" strike="noStrike" baseline="30000">
                <a:solidFill>
                  <a:srgbClr val="474747"/>
                </a:solidFill>
                <a:latin typeface="Century Gothic"/>
              </a:rPr>
              <a:t>th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, 2009, from ERIC database</a:t>
            </a:r>
            <a:endParaRPr b="0" lang="en-US" sz="1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2T03:27:50Z</dcterms:created>
  <dc:creator>LaShaun Ellis</dc:creator>
  <dc:description/>
  <dc:language>en-US</dc:language>
  <cp:lastModifiedBy>LaShaun Ellis</cp:lastModifiedBy>
  <cp:lastPrinted>2009-12-11T03:47:53Z</cp:lastPrinted>
  <dcterms:modified xsi:type="dcterms:W3CDTF">2009-12-17T03:47:35Z</dcterms:modified>
  <cp:revision>40</cp:revision>
  <dc:subject/>
  <dc:title>Action Research Report</dc:title>
</cp:coreProperties>
</file>